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CD2-F822-4DE2-A9C8-3CA8118B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8E4-B363-4F29-8DAF-873950C0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B69-BC46-415B-AB1C-F9BBD854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CB6A-C2F8-499B-9BC9-015DB1F5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D571-8763-4D60-BBA2-F48761F0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6A3A-7975-4217-9990-FC2F3784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5378-BBF9-4AB3-82B0-84BD834F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6C14-5EE4-42A7-95A4-B6E9B78E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C40E-BDD5-4053-8F25-B03BFD65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DD19-EEC2-4488-9BFB-231168C3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5218-C140-4E91-B429-8CC2EB17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334-C03F-4511-B3A1-371E4FDC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EB9C-22B3-4042-A7EE-B177D9F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A32BD-7D20-457E-A705-90706705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A6B-672B-4E09-A673-E7BB1278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1ABA-011B-41D5-9A5A-4628341B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42FD-C280-42F3-9827-6FC3E8A9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6918-0AC8-49B0-8AE7-9E50CBAE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798-299E-49A6-B902-F0F8960B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7E2-5348-4A30-9423-BC1046CA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9AE-F44F-4DA9-919C-C9AF677F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0F2-5CC6-4013-9717-A3F8ACA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4EC-C4D5-44D3-909D-491A499A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AD8-66FF-4230-8B39-9784842F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3D5C-A112-4CF9-BEA9-032FE3436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F4C7-DDD3-404D-B6F3-7BF6E77638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6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3.xml"/><Relationship Id="rId25" Type="http://schemas.openxmlformats.org/officeDocument/2006/relationships/slide" Target="slide26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97632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alculus I Jeopardy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75916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d Fall 200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y Anne Dudle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lendale Community Colleg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odified Spring 2013 by Michael Holtfrerich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7"/>
              <p:cNvSpPr txBox="1"/>
              <p:nvPr/>
            </p:nvSpPr>
            <p:spPr>
              <a:xfrm>
                <a:off x="3429000" y="3962520"/>
                <a:ext cx="220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or a function to have a minimum or a maximum, what has to happen to the derivativ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a place on a curve called where concavity switches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maximum area that can be enclosed with 100 feet of fencing, given the region below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1981080" y="46483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198108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1981080" y="594360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7672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4572000" y="46483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pplication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List three words that you might find in an application problem that would signal you to take the derivativ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ntegral will measure the area shown below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1752480" y="510552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7"/>
          <p:cNvSpPr/>
          <p:nvPr/>
        </p:nvSpPr>
        <p:spPr>
          <a:xfrm flipV="1">
            <a:off x="3048120" y="3657240"/>
            <a:ext cx="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3352680" y="4419720"/>
            <a:ext cx="1371600" cy="12189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3200400" y="5114880"/>
            <a:ext cx="1676520" cy="762120"/>
          </a:xfrm>
          <a:prstGeom prst="rect">
            <a:avLst/>
          </a:prstGeom>
          <a:solidFill>
            <a:srgbClr val="218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3200400" y="5029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               5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464832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 = f(x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82880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Object 1"/>
          <p:cNvGraphicFramePr/>
          <p:nvPr/>
        </p:nvGraphicFramePr>
        <p:xfrm>
          <a:off x="3429000" y="3505320"/>
          <a:ext cx="2235240" cy="81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0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9000" y="3505320"/>
                    <a:ext cx="2235240" cy="81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ind and simplif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3809880" y="3657600"/>
                <a:ext cx="17654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Integration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0" name="Object 1"/>
          <p:cNvGraphicFramePr/>
          <p:nvPr/>
        </p:nvGraphicFramePr>
        <p:xfrm>
          <a:off x="3581280" y="3505320"/>
          <a:ext cx="1650960" cy="1168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81280" y="3505320"/>
                    <a:ext cx="165096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6"/>
              <p:cNvSpPr txBox="1"/>
              <p:nvPr/>
            </p:nvSpPr>
            <p:spPr>
              <a:xfrm>
                <a:off x="3581280" y="3962520"/>
                <a:ext cx="2095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Calculus Jeopardy </a:t>
            </a:r>
            <a:r>
              <a:rPr b="1" lang="en-US" sz="1200" spc="-1" strike="noStrike" u="sng">
                <a:solidFill>
                  <a:srgbClr val="6666ff"/>
                </a:solidFill>
                <a:uFillTx/>
                <a:latin typeface="Century Schoolbook"/>
                <a:hlinkClick r:id="rId1" action="ppaction://hlinksldjump"/>
              </a:rPr>
              <a:t>FINAL</a:t>
            </a:r>
            <a:endParaRPr b="0" lang="en-US" sz="1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1981080"/>
          <a:ext cx="7620120" cy="449604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69720"/>
                <a:gridCol w="1270080"/>
                <a:gridCol w="1270080"/>
                <a:gridCol w="1270080"/>
              </a:tblGrid>
              <a:tr h="89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LIMIT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RIVA-TIV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PPL. OF DERIVA-TIVES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INTE-GRATION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LGE-BRA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SC.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1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2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3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$400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149">
            <a:hlinkClick r:id="rId2" action="ppaction://hlinksldjump"/>
          </p:cNvPr>
          <p:cNvSpPr/>
          <p:nvPr/>
        </p:nvSpPr>
        <p:spPr>
          <a:xfrm>
            <a:off x="114300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AutoShape 150">
            <a:hlinkClick r:id="rId3" action="ppaction://hlinksldjump"/>
          </p:cNvPr>
          <p:cNvSpPr/>
          <p:nvPr/>
        </p:nvSpPr>
        <p:spPr>
          <a:xfrm>
            <a:off x="114300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151">
            <a:hlinkClick r:id="rId4" action="ppaction://hlinksldjump"/>
          </p:cNvPr>
          <p:cNvSpPr/>
          <p:nvPr/>
        </p:nvSpPr>
        <p:spPr>
          <a:xfrm>
            <a:off x="114300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152">
            <a:hlinkClick r:id="rId5" action="ppaction://hlinksldjump"/>
          </p:cNvPr>
          <p:cNvSpPr/>
          <p:nvPr/>
        </p:nvSpPr>
        <p:spPr>
          <a:xfrm>
            <a:off x="1143000" y="56386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153">
            <a:hlinkClick r:id="rId6" action="ppaction://hlinksldjump"/>
          </p:cNvPr>
          <p:cNvSpPr/>
          <p:nvPr/>
        </p:nvSpPr>
        <p:spPr>
          <a:xfrm>
            <a:off x="2362320" y="4724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54">
            <a:hlinkClick r:id="rId7" action="ppaction://hlinksldjump"/>
          </p:cNvPr>
          <p:cNvSpPr/>
          <p:nvPr/>
        </p:nvSpPr>
        <p:spPr>
          <a:xfrm>
            <a:off x="243828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155">
            <a:hlinkClick r:id="rId8" action="ppaction://hlinksldjump"/>
          </p:cNvPr>
          <p:cNvSpPr/>
          <p:nvPr/>
        </p:nvSpPr>
        <p:spPr>
          <a:xfrm>
            <a:off x="243828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156">
            <a:hlinkClick r:id="rId9" action="ppaction://hlinksldjump"/>
          </p:cNvPr>
          <p:cNvSpPr/>
          <p:nvPr/>
        </p:nvSpPr>
        <p:spPr>
          <a:xfrm>
            <a:off x="24382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57">
            <a:hlinkClick r:id="rId10" action="ppaction://hlinksldjump"/>
          </p:cNvPr>
          <p:cNvSpPr/>
          <p:nvPr/>
        </p:nvSpPr>
        <p:spPr>
          <a:xfrm>
            <a:off x="3733920" y="38098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58">
            <a:hlinkClick r:id="rId11" action="ppaction://hlinksldjump"/>
          </p:cNvPr>
          <p:cNvSpPr/>
          <p:nvPr/>
        </p:nvSpPr>
        <p:spPr>
          <a:xfrm>
            <a:off x="3733920" y="28954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59">
            <a:hlinkClick r:id="rId12" action="ppaction://hlinksldjump"/>
          </p:cNvPr>
          <p:cNvSpPr/>
          <p:nvPr/>
        </p:nvSpPr>
        <p:spPr>
          <a:xfrm>
            <a:off x="3733920" y="47242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60">
            <a:hlinkClick r:id="rId13" action="ppaction://hlinksldjump"/>
          </p:cNvPr>
          <p:cNvSpPr/>
          <p:nvPr/>
        </p:nvSpPr>
        <p:spPr>
          <a:xfrm>
            <a:off x="365760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1">
            <a:hlinkClick r:id="rId14" action="ppaction://hlinksldjump"/>
          </p:cNvPr>
          <p:cNvSpPr/>
          <p:nvPr/>
        </p:nvSpPr>
        <p:spPr>
          <a:xfrm>
            <a:off x="495288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62">
            <a:hlinkClick r:id="rId15" action="ppaction://hlinksldjump"/>
          </p:cNvPr>
          <p:cNvSpPr/>
          <p:nvPr/>
        </p:nvSpPr>
        <p:spPr>
          <a:xfrm>
            <a:off x="495288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63">
            <a:hlinkClick r:id="rId16" action="ppaction://hlinksldjump"/>
          </p:cNvPr>
          <p:cNvSpPr/>
          <p:nvPr/>
        </p:nvSpPr>
        <p:spPr>
          <a:xfrm>
            <a:off x="495288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164">
            <a:hlinkClick r:id="rId17" action="ppaction://hlinksldjump"/>
          </p:cNvPr>
          <p:cNvSpPr/>
          <p:nvPr/>
        </p:nvSpPr>
        <p:spPr>
          <a:xfrm>
            <a:off x="495288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165">
            <a:hlinkClick r:id="rId18" action="ppaction://hlinksldjump"/>
          </p:cNvPr>
          <p:cNvSpPr/>
          <p:nvPr/>
        </p:nvSpPr>
        <p:spPr>
          <a:xfrm>
            <a:off x="6248520" y="28954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66">
            <a:hlinkClick r:id="rId19" action="ppaction://hlinksldjump"/>
          </p:cNvPr>
          <p:cNvSpPr/>
          <p:nvPr/>
        </p:nvSpPr>
        <p:spPr>
          <a:xfrm>
            <a:off x="6248520" y="3809880"/>
            <a:ext cx="1218960" cy="838440"/>
          </a:xfrm>
          <a:custGeom>
            <a:avLst/>
            <a:gdLst>
              <a:gd name="textAreaLeft" fmla="*/ 54360 w 1218960"/>
              <a:gd name="textAreaRight" fmla="*/ 1164600 w 12189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399" h="21600">
                <a:moveTo>
                  <a:pt x="0" y="0"/>
                </a:moveTo>
                <a:lnTo>
                  <a:pt x="31399" y="0"/>
                </a:lnTo>
                <a:lnTo>
                  <a:pt x="31399" y="21600"/>
                </a:lnTo>
                <a:lnTo>
                  <a:pt x="0" y="21600"/>
                </a:lnTo>
                <a:close/>
              </a:path>
              <a:path fill="lightenLess" w="31399" h="21600">
                <a:moveTo>
                  <a:pt x="0" y="0"/>
                </a:moveTo>
                <a:lnTo>
                  <a:pt x="31399" y="0"/>
                </a:lnTo>
                <a:lnTo>
                  <a:pt x="29999" y="1400"/>
                </a:lnTo>
                <a:lnTo>
                  <a:pt x="1400" y="1400"/>
                </a:lnTo>
                <a:close/>
              </a:path>
              <a:path fill="darken" w="31399" h="21600">
                <a:moveTo>
                  <a:pt x="31399" y="0"/>
                </a:moveTo>
                <a:lnTo>
                  <a:pt x="31399" y="21600"/>
                </a:lnTo>
                <a:lnTo>
                  <a:pt x="29999" y="20200"/>
                </a:lnTo>
                <a:lnTo>
                  <a:pt x="29999" y="1400"/>
                </a:lnTo>
                <a:close/>
              </a:path>
              <a:path fill="darkenLess" w="31399" h="21600">
                <a:moveTo>
                  <a:pt x="31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99" y="20200"/>
                </a:lnTo>
                <a:close/>
              </a:path>
              <a:path fill="lighten" w="31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167">
            <a:hlinkClick r:id="rId20" action="ppaction://hlinksldjump"/>
          </p:cNvPr>
          <p:cNvSpPr/>
          <p:nvPr/>
        </p:nvSpPr>
        <p:spPr>
          <a:xfrm>
            <a:off x="6248520" y="46483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168">
            <a:hlinkClick r:id="rId21" action="ppaction://hlinksldjump"/>
          </p:cNvPr>
          <p:cNvSpPr/>
          <p:nvPr/>
        </p:nvSpPr>
        <p:spPr>
          <a:xfrm>
            <a:off x="6248520" y="5562720"/>
            <a:ext cx="1218960" cy="838080"/>
          </a:xfrm>
          <a:custGeom>
            <a:avLst/>
            <a:gdLst>
              <a:gd name="textAreaLeft" fmla="*/ 54000 w 1218960"/>
              <a:gd name="textAreaRight" fmla="*/ 1164960 w 121896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12" h="21600">
                <a:moveTo>
                  <a:pt x="0" y="0"/>
                </a:moveTo>
                <a:lnTo>
                  <a:pt x="31412" y="0"/>
                </a:lnTo>
                <a:lnTo>
                  <a:pt x="31412" y="21600"/>
                </a:lnTo>
                <a:lnTo>
                  <a:pt x="0" y="21600"/>
                </a:lnTo>
                <a:close/>
              </a:path>
              <a:path fill="lightenLess" w="31412" h="21600">
                <a:moveTo>
                  <a:pt x="0" y="0"/>
                </a:moveTo>
                <a:lnTo>
                  <a:pt x="31412" y="0"/>
                </a:lnTo>
                <a:lnTo>
                  <a:pt x="30012" y="1400"/>
                </a:lnTo>
                <a:lnTo>
                  <a:pt x="1400" y="1400"/>
                </a:lnTo>
                <a:close/>
              </a:path>
              <a:path fill="darken" w="31412" h="21600">
                <a:moveTo>
                  <a:pt x="31412" y="0"/>
                </a:moveTo>
                <a:lnTo>
                  <a:pt x="31412" y="21600"/>
                </a:lnTo>
                <a:lnTo>
                  <a:pt x="30012" y="20200"/>
                </a:lnTo>
                <a:lnTo>
                  <a:pt x="30012" y="1400"/>
                </a:lnTo>
                <a:close/>
              </a:path>
              <a:path fill="darkenLess" w="31412" h="21600">
                <a:moveTo>
                  <a:pt x="31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12" y="20200"/>
                </a:lnTo>
                <a:close/>
              </a:path>
              <a:path fill="lighten" w="31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69">
            <a:hlinkClick r:id="rId22" action="ppaction://hlinksldjump"/>
          </p:cNvPr>
          <p:cNvSpPr/>
          <p:nvPr/>
        </p:nvSpPr>
        <p:spPr>
          <a:xfrm>
            <a:off x="7543800" y="38098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170">
            <a:hlinkClick r:id="rId23" action="ppaction://hlinksldjump"/>
          </p:cNvPr>
          <p:cNvSpPr/>
          <p:nvPr/>
        </p:nvSpPr>
        <p:spPr>
          <a:xfrm>
            <a:off x="7467480" y="47242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71">
            <a:hlinkClick r:id="rId24" action="ppaction://hlinksldjump"/>
          </p:cNvPr>
          <p:cNvSpPr/>
          <p:nvPr/>
        </p:nvSpPr>
        <p:spPr>
          <a:xfrm>
            <a:off x="7543800" y="28954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172">
            <a:hlinkClick r:id="rId25" action="ppaction://hlinksldjump"/>
          </p:cNvPr>
          <p:cNvSpPr/>
          <p:nvPr/>
        </p:nvSpPr>
        <p:spPr>
          <a:xfrm>
            <a:off x="7543800" y="556272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6"/>
              <p:cNvSpPr txBox="1"/>
              <p:nvPr/>
            </p:nvSpPr>
            <p:spPr>
              <a:xfrm>
                <a:off x="4114800" y="3962520"/>
                <a:ext cx="110484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3257640" y="3232080"/>
          <a:ext cx="2921040" cy="12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7640" y="3232080"/>
                    <a:ext cx="292104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Algebra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Factor completely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2209680" y="3962520"/>
                <a:ext cx="55897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Complete the squar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7" name="Object 1"/>
          <p:cNvGraphicFramePr/>
          <p:nvPr/>
        </p:nvGraphicFramePr>
        <p:xfrm>
          <a:off x="3098880" y="3917880"/>
          <a:ext cx="2921040" cy="5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8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8880" y="3917880"/>
                    <a:ext cx="29210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valuat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3" name="Object 1"/>
          <p:cNvGraphicFramePr/>
          <p:nvPr/>
        </p:nvGraphicFramePr>
        <p:xfrm>
          <a:off x="2971800" y="3809880"/>
          <a:ext cx="3111480" cy="62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3809880"/>
                    <a:ext cx="31114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ich is a better way to approximate an area, Trapezoid or Simpson’s Rul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MISC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How many different families of integrals have we learned this semester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295" name="AutoShape 4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Text Box 5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3403440" y="2927520"/>
                <a:ext cx="2337120" cy="100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AutoShape 10">
            <a:hlinkClick r:id="rId1" action="ppaction://hlinksldjump"/>
          </p:cNvPr>
          <p:cNvSpPr/>
          <p:nvPr/>
        </p:nvSpPr>
        <p:spPr>
          <a:xfrm>
            <a:off x="1219320" y="5638680"/>
            <a:ext cx="1981080" cy="1067040"/>
          </a:xfrm>
          <a:custGeom>
            <a:avLst/>
            <a:gdLst>
              <a:gd name="textAreaLeft" fmla="*/ 69120 w 1981080"/>
              <a:gd name="textAreaRight" fmla="*/ 1911960 w 198108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40097" h="21600">
                <a:moveTo>
                  <a:pt x="0" y="0"/>
                </a:moveTo>
                <a:lnTo>
                  <a:pt x="40097" y="0"/>
                </a:lnTo>
                <a:lnTo>
                  <a:pt x="40097" y="21600"/>
                </a:lnTo>
                <a:lnTo>
                  <a:pt x="0" y="21600"/>
                </a:lnTo>
                <a:close/>
              </a:path>
              <a:path fill="lightenLess" w="40097" h="21600">
                <a:moveTo>
                  <a:pt x="0" y="0"/>
                </a:moveTo>
                <a:lnTo>
                  <a:pt x="40097" y="0"/>
                </a:lnTo>
                <a:lnTo>
                  <a:pt x="38697" y="1400"/>
                </a:lnTo>
                <a:lnTo>
                  <a:pt x="1400" y="1400"/>
                </a:lnTo>
                <a:close/>
              </a:path>
              <a:path fill="darken" w="40097" h="21600">
                <a:moveTo>
                  <a:pt x="40097" y="0"/>
                </a:moveTo>
                <a:lnTo>
                  <a:pt x="40097" y="21600"/>
                </a:lnTo>
                <a:lnTo>
                  <a:pt x="38697" y="20200"/>
                </a:lnTo>
                <a:lnTo>
                  <a:pt x="38697" y="1400"/>
                </a:lnTo>
                <a:close/>
              </a:path>
              <a:path fill="darkenLess" w="40097" h="21600">
                <a:moveTo>
                  <a:pt x="40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7" y="20200"/>
                </a:lnTo>
                <a:close/>
              </a:path>
              <a:path fill="lighten" w="40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0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0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3" name="Object 7"/>
          <p:cNvGraphicFramePr/>
          <p:nvPr/>
        </p:nvGraphicFramePr>
        <p:xfrm>
          <a:off x="3429000" y="2844720"/>
          <a:ext cx="22860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844720"/>
                    <a:ext cx="22860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AutoShape 8">
            <a:hlinkClick r:id="rId3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07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08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0" name="Object 7"/>
              <p:cNvSpPr txBox="1"/>
              <p:nvPr/>
            </p:nvSpPr>
            <p:spPr>
              <a:xfrm>
                <a:off x="2558880" y="2832120"/>
                <a:ext cx="402624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AutoShape 50"/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1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2"/>
              <p:cNvSpPr txBox="1"/>
              <p:nvPr/>
            </p:nvSpPr>
            <p:spPr>
              <a:xfrm>
                <a:off x="4235400" y="3232080"/>
                <a:ext cx="6732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AutoShape 53">
            <a:hlinkClick r:id="rId1" action="ppaction://hlinksldjump"/>
          </p:cNvPr>
          <p:cNvSpPr/>
          <p:nvPr/>
        </p:nvSpPr>
        <p:spPr>
          <a:xfrm>
            <a:off x="6858000" y="586728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Limit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14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3219480" y="2959200"/>
                <a:ext cx="27050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2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Object 7"/>
              <p:cNvSpPr txBox="1"/>
              <p:nvPr/>
            </p:nvSpPr>
            <p:spPr>
              <a:xfrm>
                <a:off x="3130560" y="3124080"/>
                <a:ext cx="2882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28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0" name="Object 7"/>
              <p:cNvSpPr txBox="1"/>
              <p:nvPr/>
            </p:nvSpPr>
            <p:spPr>
              <a:xfrm>
                <a:off x="3708360" y="2876400"/>
                <a:ext cx="1727280" cy="110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3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Object 7"/>
              <p:cNvSpPr txBox="1"/>
              <p:nvPr/>
            </p:nvSpPr>
            <p:spPr>
              <a:xfrm>
                <a:off x="3968640" y="3219480"/>
                <a:ext cx="1206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AutoShape 8">
            <a:hlinkClick r:id="rId1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10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40" name="AutoShape 11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Text Box 12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Derivative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523880" y="2514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rivative i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3714840" y="3720960"/>
          <a:ext cx="201924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3720960"/>
                    <a:ext cx="201924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AutoShape 8">
            <a:hlinkClick r:id="rId3" action="ppaction://hlinksldjump"/>
          </p:cNvPr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AutoShape 9">
            <a:hlinkClick r:id="rId4" action="ppaction://hlinksldjump"/>
          </p:cNvPr>
          <p:cNvSpPr/>
          <p:nvPr/>
        </p:nvSpPr>
        <p:spPr>
          <a:xfrm>
            <a:off x="1371600" y="5715000"/>
            <a:ext cx="2057400" cy="914400"/>
          </a:xfrm>
          <a:custGeom>
            <a:avLst/>
            <a:gdLst>
              <a:gd name="textAreaLeft" fmla="*/ 59040 w 2057400"/>
              <a:gd name="textAreaRight" fmla="*/ 1998360 w 2057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8589" h="21600">
                <a:moveTo>
                  <a:pt x="0" y="0"/>
                </a:moveTo>
                <a:lnTo>
                  <a:pt x="48589" y="0"/>
                </a:lnTo>
                <a:lnTo>
                  <a:pt x="48589" y="21600"/>
                </a:lnTo>
                <a:lnTo>
                  <a:pt x="0" y="21600"/>
                </a:lnTo>
                <a:close/>
              </a:path>
              <a:path fill="lightenLess" w="48589" h="21600">
                <a:moveTo>
                  <a:pt x="0" y="0"/>
                </a:moveTo>
                <a:lnTo>
                  <a:pt x="48589" y="0"/>
                </a:lnTo>
                <a:lnTo>
                  <a:pt x="47189" y="1400"/>
                </a:lnTo>
                <a:lnTo>
                  <a:pt x="1400" y="1400"/>
                </a:lnTo>
                <a:close/>
              </a:path>
              <a:path fill="darken" w="48589" h="21600">
                <a:moveTo>
                  <a:pt x="48589" y="0"/>
                </a:moveTo>
                <a:lnTo>
                  <a:pt x="48589" y="21600"/>
                </a:lnTo>
                <a:lnTo>
                  <a:pt x="47189" y="20200"/>
                </a:lnTo>
                <a:lnTo>
                  <a:pt x="47189" y="1400"/>
                </a:lnTo>
                <a:close/>
              </a:path>
              <a:path fill="darkenLess" w="48589" h="21600">
                <a:moveTo>
                  <a:pt x="485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9" y="20200"/>
                </a:lnTo>
                <a:close/>
              </a:path>
              <a:path fill="lighten" w="485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1523880" y="2514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The derivative must equal ZERO or possibly undefined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5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3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1523880" y="25146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 place on the curve where concavity switched is called an INFLECTION POIN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57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9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rea is 1250/3 square feet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2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63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pplications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523880" y="2514600"/>
            <a:ext cx="708660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ome possibilities are: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Minimize, Maximize, Optimize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Velocity, Acceleration,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Rate of Change, Slope of Tangent line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69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1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7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7" name="Object 7"/>
              <p:cNvSpPr txBox="1"/>
              <p:nvPr/>
            </p:nvSpPr>
            <p:spPr>
              <a:xfrm>
                <a:off x="3606840" y="2806560"/>
                <a:ext cx="193032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Object 6"/>
          <p:cNvGraphicFramePr/>
          <p:nvPr/>
        </p:nvGraphicFramePr>
        <p:xfrm>
          <a:off x="3797280" y="2844720"/>
          <a:ext cx="1549440" cy="116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7280" y="2844720"/>
                    <a:ext cx="15494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82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4" name="Object 7"/>
              <p:cNvSpPr txBox="1"/>
              <p:nvPr/>
            </p:nvSpPr>
            <p:spPr>
              <a:xfrm>
                <a:off x="3257640" y="3111480"/>
                <a:ext cx="26287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89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4159080" y="3213000"/>
                <a:ext cx="825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2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Integration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396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8" name="AutoShape 9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9" name="Object 1"/>
          <p:cNvGraphicFramePr/>
          <p:nvPr/>
        </p:nvGraphicFramePr>
        <p:xfrm>
          <a:off x="2324160" y="3200400"/>
          <a:ext cx="466092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4160" y="3200400"/>
                    <a:ext cx="46609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523880" y="2514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04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6" name="Object 7"/>
              <p:cNvSpPr txBox="1"/>
              <p:nvPr/>
            </p:nvSpPr>
            <p:spPr>
              <a:xfrm>
                <a:off x="2355840" y="3149640"/>
                <a:ext cx="4432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07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09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10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2" name="Object 7"/>
              <p:cNvSpPr txBox="1"/>
              <p:nvPr/>
            </p:nvSpPr>
            <p:spPr>
              <a:xfrm>
                <a:off x="3035160" y="2857680"/>
                <a:ext cx="3073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OR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AutoShape 8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16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19" name="Object 8"/>
          <p:cNvGraphicFramePr/>
          <p:nvPr/>
        </p:nvGraphicFramePr>
        <p:xfrm>
          <a:off x="1271520" y="3544920"/>
          <a:ext cx="74502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1520" y="3544920"/>
                    <a:ext cx="74502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lgebra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23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5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6" name="Object 8"/>
          <p:cNvGraphicFramePr/>
          <p:nvPr/>
        </p:nvGraphicFramePr>
        <p:xfrm>
          <a:off x="3719520" y="2952720"/>
          <a:ext cx="23367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9520" y="2952720"/>
                    <a:ext cx="23367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1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29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30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2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3" name="Object 1"/>
          <p:cNvGraphicFramePr/>
          <p:nvPr/>
        </p:nvGraphicFramePr>
        <p:xfrm>
          <a:off x="3213000" y="3352680"/>
          <a:ext cx="303552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3000" y="3352680"/>
                    <a:ext cx="303552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2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37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9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0" name="Object 1"/>
          <p:cNvGraphicFramePr/>
          <p:nvPr/>
        </p:nvGraphicFramePr>
        <p:xfrm>
          <a:off x="2666880" y="3200400"/>
          <a:ext cx="429264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00400"/>
                    <a:ext cx="42926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3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3" name="Text Box 3"/>
          <p:cNvSpPr/>
          <p:nvPr/>
        </p:nvSpPr>
        <p:spPr>
          <a:xfrm>
            <a:off x="1523880" y="2514600"/>
            <a:ext cx="7086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Simpson’s (</a:t>
            </a: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a curve is better than straight lin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45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908440" y="2832120"/>
                <a:ext cx="332712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¥</m:t>
                        </m:r>
                      </m:lim>
                    </m:limLow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MISC $400</a:t>
            </a:r>
            <a:br>
              <a:rPr sz="4800"/>
            </a:b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Answer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1525680" y="25146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Times New Roman"/>
              </a:rPr>
              <a:t>Five (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power, exp, trig, ln, inverses)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0" name="Group 4"/>
          <p:cNvGrpSpPr/>
          <p:nvPr/>
        </p:nvGrpSpPr>
        <p:grpSpPr>
          <a:xfrm>
            <a:off x="1295280" y="5867280"/>
            <a:ext cx="1904760" cy="825480"/>
            <a:chOff x="1295280" y="5867280"/>
            <a:chExt cx="1904760" cy="825480"/>
          </a:xfrm>
        </p:grpSpPr>
        <p:sp>
          <p:nvSpPr>
            <p:cNvPr id="451" name="AutoShape 5"/>
            <p:cNvSpPr/>
            <p:nvPr/>
          </p:nvSpPr>
          <p:spPr>
            <a:xfrm>
              <a:off x="1295280" y="5867280"/>
              <a:ext cx="1904760" cy="685800"/>
            </a:xfrm>
            <a:prstGeom prst="flowChartAlternateProcess">
              <a:avLst/>
            </a:prstGeom>
            <a:solidFill>
              <a:srgbClr val="01b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Text Box 6"/>
            <p:cNvSpPr/>
            <p:nvPr/>
          </p:nvSpPr>
          <p:spPr>
            <a:xfrm>
              <a:off x="1371240" y="58672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Back to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Jeopardy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3" name="AutoShape 7"/>
          <p:cNvSpPr/>
          <p:nvPr/>
        </p:nvSpPr>
        <p:spPr>
          <a:xfrm>
            <a:off x="1447920" y="59436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nal Jeopardy Quest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455" name="Object 2"/>
          <p:cNvGraphicFramePr/>
          <p:nvPr/>
        </p:nvGraphicFramePr>
        <p:xfrm>
          <a:off x="3124080" y="3733920"/>
          <a:ext cx="3098880" cy="116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733920"/>
                    <a:ext cx="309888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TextBox 3"/>
          <p:cNvSpPr/>
          <p:nvPr/>
        </p:nvSpPr>
        <p:spPr>
          <a:xfrm>
            <a:off x="1905120" y="22096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Evaluate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AutoShape 53"/>
          <p:cNvSpPr/>
          <p:nvPr/>
        </p:nvSpPr>
        <p:spPr>
          <a:xfrm>
            <a:off x="6781680" y="5791320"/>
            <a:ext cx="2057400" cy="76176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8321" h="21600">
                <a:moveTo>
                  <a:pt x="0" y="0"/>
                </a:moveTo>
                <a:lnTo>
                  <a:pt x="58321" y="0"/>
                </a:lnTo>
                <a:lnTo>
                  <a:pt x="58321" y="21600"/>
                </a:lnTo>
                <a:lnTo>
                  <a:pt x="0" y="21600"/>
                </a:lnTo>
                <a:close/>
              </a:path>
              <a:path fill="lightenLess" w="58321" h="21600">
                <a:moveTo>
                  <a:pt x="0" y="0"/>
                </a:moveTo>
                <a:lnTo>
                  <a:pt x="58321" y="0"/>
                </a:lnTo>
                <a:lnTo>
                  <a:pt x="56921" y="1400"/>
                </a:lnTo>
                <a:lnTo>
                  <a:pt x="1400" y="1400"/>
                </a:lnTo>
                <a:close/>
              </a:path>
              <a:path fill="darken" w="58321" h="21600">
                <a:moveTo>
                  <a:pt x="58321" y="0"/>
                </a:moveTo>
                <a:lnTo>
                  <a:pt x="58321" y="21600"/>
                </a:lnTo>
                <a:lnTo>
                  <a:pt x="56921" y="20200"/>
                </a:lnTo>
                <a:lnTo>
                  <a:pt x="56921" y="1400"/>
                </a:lnTo>
                <a:close/>
              </a:path>
              <a:path fill="darkenLess" w="58321" h="21600">
                <a:moveTo>
                  <a:pt x="58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21" y="20200"/>
                </a:lnTo>
                <a:close/>
              </a:path>
              <a:path fill="lighten" w="58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nal Jeopardy Answer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460" name="Object 2"/>
          <p:cNvGraphicFramePr/>
          <p:nvPr/>
        </p:nvGraphicFramePr>
        <p:xfrm>
          <a:off x="1600200" y="3352680"/>
          <a:ext cx="6692760" cy="7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352680"/>
                    <a:ext cx="6692760" cy="7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AutoShape 53"/>
          <p:cNvSpPr/>
          <p:nvPr/>
        </p:nvSpPr>
        <p:spPr>
          <a:xfrm>
            <a:off x="6553080" y="5715000"/>
            <a:ext cx="2057400" cy="762120"/>
          </a:xfrm>
          <a:custGeom>
            <a:avLst/>
            <a:gdLst>
              <a:gd name="textAreaLeft" fmla="*/ 49320 w 2057400"/>
              <a:gd name="textAreaRight" fmla="*/ 2008080 w 2057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8293" h="21600">
                <a:moveTo>
                  <a:pt x="0" y="0"/>
                </a:moveTo>
                <a:lnTo>
                  <a:pt x="58293" y="0"/>
                </a:lnTo>
                <a:lnTo>
                  <a:pt x="58293" y="21600"/>
                </a:lnTo>
                <a:lnTo>
                  <a:pt x="0" y="21600"/>
                </a:lnTo>
                <a:close/>
              </a:path>
              <a:path fill="lightenLess" w="58293" h="21600">
                <a:moveTo>
                  <a:pt x="0" y="0"/>
                </a:moveTo>
                <a:lnTo>
                  <a:pt x="58293" y="0"/>
                </a:lnTo>
                <a:lnTo>
                  <a:pt x="56894" y="1400"/>
                </a:lnTo>
                <a:lnTo>
                  <a:pt x="1400" y="1400"/>
                </a:lnTo>
                <a:close/>
              </a:path>
              <a:path fill="darken" w="58293" h="21600">
                <a:moveTo>
                  <a:pt x="58293" y="0"/>
                </a:moveTo>
                <a:lnTo>
                  <a:pt x="58293" y="21600"/>
                </a:lnTo>
                <a:lnTo>
                  <a:pt x="56894" y="20200"/>
                </a:lnTo>
                <a:lnTo>
                  <a:pt x="56894" y="1400"/>
                </a:lnTo>
                <a:close/>
              </a:path>
              <a:path fill="darkenLess" w="58293" h="21600">
                <a:moveTo>
                  <a:pt x="582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94" y="20200"/>
                </a:lnTo>
                <a:close/>
              </a:path>
              <a:path fill="lighten" w="582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Century Schoolbook"/>
              </a:rPr>
              <a:t>Thank You for playing Calculus Jeopardy!</a:t>
            </a:r>
            <a:endParaRPr b="0" lang="en-US" sz="4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971800" y="3048120"/>
            <a:ext cx="330660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End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Limits $4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556080" y="2959200"/>
                <a:ext cx="20318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1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3657600" y="3809880"/>
                <a:ext cx="20192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2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7"/>
              <p:cNvSpPr txBox="1"/>
              <p:nvPr/>
            </p:nvSpPr>
            <p:spPr>
              <a:xfrm>
                <a:off x="3429000" y="3886200"/>
                <a:ext cx="23749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Century Schoolbook"/>
              </a:rPr>
              <a:t>Derivatives $300</a:t>
            </a:r>
            <a:endParaRPr b="0" lang="en-US" sz="5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3880" y="2514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AutoShape 4">
            <a:hlinkClick r:id="rId1" action="ppaction://hlinksldjump"/>
          </p:cNvPr>
          <p:cNvSpPr/>
          <p:nvPr/>
        </p:nvSpPr>
        <p:spPr>
          <a:xfrm>
            <a:off x="6934320" y="5943600"/>
            <a:ext cx="1904760" cy="685800"/>
          </a:xfrm>
          <a:prstGeom prst="flowChartAlternateProcess">
            <a:avLst/>
          </a:prstGeom>
          <a:solidFill>
            <a:srgbClr val="01b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010280" y="61722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523880" y="2514600"/>
            <a:ext cx="70866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What is the derivative of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Simplify your answer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3505320" y="3962520"/>
                <a:ext cx="22604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48:32Z</dcterms:created>
  <dc:creator>David Dudley</dc:creator>
  <dc:description/>
  <dc:language>en-US</dc:language>
  <cp:lastModifiedBy>Adam Champagne</cp:lastModifiedBy>
  <dcterms:modified xsi:type="dcterms:W3CDTF">2015-06-09T19:27:53Z</dcterms:modified>
  <cp:revision>34</cp:revision>
  <dc:subject/>
  <dc:title>Calculus I Jeopardy</dc:title>
</cp:coreProperties>
</file>