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9BD-D57F-4B3C-88B7-B3431635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C2C-D5FB-4A1E-8E43-F34861BC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FC7-2DEF-406D-B340-CA8E358F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721-1A8D-4BBE-A62B-3DAC7522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1A25-93C9-4A96-B868-DF6A7198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3EC6-B726-4225-9951-006A02F3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5EF0-BE26-4558-A070-FFD85430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1577-FE58-494A-A72D-AEA0E46E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3C36-47AE-4496-B2F7-642651F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5268-DCF5-4F21-8646-36B2554C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0D10-FAB5-49D4-9756-71C1551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097-A858-4A38-96CC-712F359E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0A8E-16F8-4793-B384-05AD2FF5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BD2D-74D6-4FE3-A1B2-6C30D083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6D8-09B9-4635-A2D3-2640C419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89DE-B4E0-46E6-B90D-7219F0B8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CA84-1524-4E20-90FD-D0C9BBE6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690-9425-42CF-AC57-EC88998F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9FD-D1F5-4807-BA72-F91CD032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ECC-1D18-446D-90B1-6FD6CB69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CAC-4E93-4DD2-A3C0-99085529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E42-29D4-406D-8BB5-3F31F432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B5C-7FBA-4C67-B564-1FE2E19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EE2-408C-4F78-8F50-495A79B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C262-4D62-46AD-A2AF-20C6B6C0B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2863-FBEF-4EEB-A716-895F6BD7F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6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3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97632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alculus I Jeopard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759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d Fall 200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Anne Dudle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dale Community Colle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odified Spring 2013 by Michael Holtfrerich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3429000" y="3962520"/>
                <a:ext cx="220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or a function to have a minimum or a maximum, what has to happen to the derivativ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a place on a curve called where concavity switches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maximum area that can be enclosed with 100 feet of fencing, given the regio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981080" y="46483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198108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1981080" y="59436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7672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7200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List three words that you might find in an application problem that would signal you to take the derivativ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ntegral will measure the area show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1752480" y="51055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 flipV="1">
            <a:off x="3048120" y="36572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352680" y="4419720"/>
            <a:ext cx="1371600" cy="1218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3200400" y="5114880"/>
            <a:ext cx="1676520" cy="7621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320040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               5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64832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82880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Object 1"/>
          <p:cNvGraphicFramePr/>
          <p:nvPr/>
        </p:nvGraphicFramePr>
        <p:xfrm>
          <a:off x="3429000" y="3505320"/>
          <a:ext cx="223524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505320"/>
                    <a:ext cx="22352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ind and simplif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3809880" y="3657600"/>
                <a:ext cx="17654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Object 1"/>
          <p:cNvGraphicFramePr/>
          <p:nvPr/>
        </p:nvGraphicFramePr>
        <p:xfrm>
          <a:off x="3581280" y="3505320"/>
          <a:ext cx="1650960" cy="11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3505320"/>
                    <a:ext cx="165096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581280" y="3962520"/>
                <a:ext cx="2095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Calculus Jeopardy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entury Schoolbook"/>
                <a:hlinkClick r:id="rId1" action="ppaction://hlinksldjump"/>
              </a:rPr>
              <a:t>FINAL</a:t>
            </a:r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81080"/>
          <a:ext cx="7620120" cy="449604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69720"/>
                <a:gridCol w="1270080"/>
                <a:gridCol w="1270080"/>
                <a:gridCol w="1270080"/>
              </a:tblGrid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MIT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PPL. OF 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-GRATI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LGE-BR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SC.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149">
            <a:hlinkClick r:id="rId2" action="ppaction://hlinksldjump"/>
          </p:cNvPr>
          <p:cNvSpPr/>
          <p:nvPr/>
        </p:nvSpPr>
        <p:spPr>
          <a:xfrm>
            <a:off x="11430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50">
            <a:hlinkClick r:id="rId3" action="ppaction://hlinksldjump"/>
          </p:cNvPr>
          <p:cNvSpPr/>
          <p:nvPr/>
        </p:nvSpPr>
        <p:spPr>
          <a:xfrm>
            <a:off x="11430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51">
            <a:hlinkClick r:id="rId4" action="ppaction://hlinksldjump"/>
          </p:cNvPr>
          <p:cNvSpPr/>
          <p:nvPr/>
        </p:nvSpPr>
        <p:spPr>
          <a:xfrm>
            <a:off x="114300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52">
            <a:hlinkClick r:id="rId5" action="ppaction://hlinksldjump"/>
          </p:cNvPr>
          <p:cNvSpPr/>
          <p:nvPr/>
        </p:nvSpPr>
        <p:spPr>
          <a:xfrm>
            <a:off x="11430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53">
            <a:hlinkClick r:id="rId6" action="ppaction://hlinksldjump"/>
          </p:cNvPr>
          <p:cNvSpPr/>
          <p:nvPr/>
        </p:nvSpPr>
        <p:spPr>
          <a:xfrm>
            <a:off x="23623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54">
            <a:hlinkClick r:id="rId7" action="ppaction://hlinksldjump"/>
          </p:cNvPr>
          <p:cNvSpPr/>
          <p:nvPr/>
        </p:nvSpPr>
        <p:spPr>
          <a:xfrm>
            <a:off x="24382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55">
            <a:hlinkClick r:id="rId8" action="ppaction://hlinksldjump"/>
          </p:cNvPr>
          <p:cNvSpPr/>
          <p:nvPr/>
        </p:nvSpPr>
        <p:spPr>
          <a:xfrm>
            <a:off x="24382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56">
            <a:hlinkClick r:id="rId9" action="ppaction://hlinksldjump"/>
          </p:cNvPr>
          <p:cNvSpPr/>
          <p:nvPr/>
        </p:nvSpPr>
        <p:spPr>
          <a:xfrm>
            <a:off x="24382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57">
            <a:hlinkClick r:id="rId10" action="ppaction://hlinksldjump"/>
          </p:cNvPr>
          <p:cNvSpPr/>
          <p:nvPr/>
        </p:nvSpPr>
        <p:spPr>
          <a:xfrm>
            <a:off x="37339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58">
            <a:hlinkClick r:id="rId11" action="ppaction://hlinksldjump"/>
          </p:cNvPr>
          <p:cNvSpPr/>
          <p:nvPr/>
        </p:nvSpPr>
        <p:spPr>
          <a:xfrm>
            <a:off x="37339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9">
            <a:hlinkClick r:id="rId12" action="ppaction://hlinksldjump"/>
          </p:cNvPr>
          <p:cNvSpPr/>
          <p:nvPr/>
        </p:nvSpPr>
        <p:spPr>
          <a:xfrm>
            <a:off x="37339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60">
            <a:hlinkClick r:id="rId13" action="ppaction://hlinksldjump"/>
          </p:cNvPr>
          <p:cNvSpPr/>
          <p:nvPr/>
        </p:nvSpPr>
        <p:spPr>
          <a:xfrm>
            <a:off x="36576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1">
            <a:hlinkClick r:id="rId14" action="ppaction://hlinksldjump"/>
          </p:cNvPr>
          <p:cNvSpPr/>
          <p:nvPr/>
        </p:nvSpPr>
        <p:spPr>
          <a:xfrm>
            <a:off x="49528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62">
            <a:hlinkClick r:id="rId15" action="ppaction://hlinksldjump"/>
          </p:cNvPr>
          <p:cNvSpPr/>
          <p:nvPr/>
        </p:nvSpPr>
        <p:spPr>
          <a:xfrm>
            <a:off x="49528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63">
            <a:hlinkClick r:id="rId16" action="ppaction://hlinksldjump"/>
          </p:cNvPr>
          <p:cNvSpPr/>
          <p:nvPr/>
        </p:nvSpPr>
        <p:spPr>
          <a:xfrm>
            <a:off x="49528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164">
            <a:hlinkClick r:id="rId17" action="ppaction://hlinksldjump"/>
          </p:cNvPr>
          <p:cNvSpPr/>
          <p:nvPr/>
        </p:nvSpPr>
        <p:spPr>
          <a:xfrm>
            <a:off x="49528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65">
            <a:hlinkClick r:id="rId18" action="ppaction://hlinksldjump"/>
          </p:cNvPr>
          <p:cNvSpPr/>
          <p:nvPr/>
        </p:nvSpPr>
        <p:spPr>
          <a:xfrm>
            <a:off x="62485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66">
            <a:hlinkClick r:id="rId19" action="ppaction://hlinksldjump"/>
          </p:cNvPr>
          <p:cNvSpPr/>
          <p:nvPr/>
        </p:nvSpPr>
        <p:spPr>
          <a:xfrm>
            <a:off x="62485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67">
            <a:hlinkClick r:id="rId20" action="ppaction://hlinksldjump"/>
          </p:cNvPr>
          <p:cNvSpPr/>
          <p:nvPr/>
        </p:nvSpPr>
        <p:spPr>
          <a:xfrm>
            <a:off x="6248520" y="46483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68">
            <a:hlinkClick r:id="rId21" action="ppaction://hlinksldjump"/>
          </p:cNvPr>
          <p:cNvSpPr/>
          <p:nvPr/>
        </p:nvSpPr>
        <p:spPr>
          <a:xfrm>
            <a:off x="62485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69">
            <a:hlinkClick r:id="rId22" action="ppaction://hlinksldjump"/>
          </p:cNvPr>
          <p:cNvSpPr/>
          <p:nvPr/>
        </p:nvSpPr>
        <p:spPr>
          <a:xfrm>
            <a:off x="75438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70">
            <a:hlinkClick r:id="rId23" action="ppaction://hlinksldjump"/>
          </p:cNvPr>
          <p:cNvSpPr/>
          <p:nvPr/>
        </p:nvSpPr>
        <p:spPr>
          <a:xfrm>
            <a:off x="74674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71">
            <a:hlinkClick r:id="rId24" action="ppaction://hlinksldjump"/>
          </p:cNvPr>
          <p:cNvSpPr/>
          <p:nvPr/>
        </p:nvSpPr>
        <p:spPr>
          <a:xfrm>
            <a:off x="75438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72">
            <a:hlinkClick r:id="rId25" action="ppaction://hlinksldjump"/>
          </p:cNvPr>
          <p:cNvSpPr/>
          <p:nvPr/>
        </p:nvSpPr>
        <p:spPr>
          <a:xfrm>
            <a:off x="75438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4114800" y="3962520"/>
                <a:ext cx="11048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3257640" y="3232080"/>
          <a:ext cx="2921040" cy="12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7640" y="3232080"/>
                    <a:ext cx="29210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actor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2209680" y="3962520"/>
                <a:ext cx="5589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Complete the squar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Object 1"/>
          <p:cNvGraphicFramePr/>
          <p:nvPr/>
        </p:nvGraphicFramePr>
        <p:xfrm>
          <a:off x="3098880" y="3917880"/>
          <a:ext cx="292104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8880" y="3917880"/>
                    <a:ext cx="2921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Object 1"/>
          <p:cNvGraphicFramePr/>
          <p:nvPr/>
        </p:nvGraphicFramePr>
        <p:xfrm>
          <a:off x="2971800" y="3809880"/>
          <a:ext cx="311148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809880"/>
                    <a:ext cx="3111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ich is a better way to approximate an area, Trapezoid or Simpson’s Rul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How many different families of integrals have we learned this semester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295" name="AutoShape 4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Text Box 5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3403440" y="2927520"/>
                <a:ext cx="233712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AutoShape 10">
            <a:hlinkClick r:id="rId1" action="ppaction://hlinksldjump"/>
          </p:cNvPr>
          <p:cNvSpPr/>
          <p:nvPr/>
        </p:nvSpPr>
        <p:spPr>
          <a:xfrm>
            <a:off x="1219320" y="5638680"/>
            <a:ext cx="1981080" cy="1067040"/>
          </a:xfrm>
          <a:custGeom>
            <a:avLst/>
            <a:gdLst>
              <a:gd name="textAreaLeft" fmla="*/ 69120 w 1981080"/>
              <a:gd name="textAreaRight" fmla="*/ 1911960 w 1981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40097" h="21600">
                <a:moveTo>
                  <a:pt x="0" y="0"/>
                </a:moveTo>
                <a:lnTo>
                  <a:pt x="40097" y="0"/>
                </a:lnTo>
                <a:lnTo>
                  <a:pt x="40097" y="21600"/>
                </a:lnTo>
                <a:lnTo>
                  <a:pt x="0" y="21600"/>
                </a:lnTo>
                <a:close/>
              </a:path>
              <a:path fill="lightenLess" w="40097" h="21600">
                <a:moveTo>
                  <a:pt x="0" y="0"/>
                </a:moveTo>
                <a:lnTo>
                  <a:pt x="40097" y="0"/>
                </a:lnTo>
                <a:lnTo>
                  <a:pt x="38697" y="1400"/>
                </a:lnTo>
                <a:lnTo>
                  <a:pt x="1400" y="1400"/>
                </a:lnTo>
                <a:close/>
              </a:path>
              <a:path fill="darken" w="40097" h="21600">
                <a:moveTo>
                  <a:pt x="40097" y="0"/>
                </a:moveTo>
                <a:lnTo>
                  <a:pt x="40097" y="21600"/>
                </a:lnTo>
                <a:lnTo>
                  <a:pt x="38697" y="20200"/>
                </a:lnTo>
                <a:lnTo>
                  <a:pt x="38697" y="1400"/>
                </a:lnTo>
                <a:close/>
              </a:path>
              <a:path fill="darkenLess" w="40097" h="21600">
                <a:moveTo>
                  <a:pt x="40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7" y="20200"/>
                </a:lnTo>
                <a:close/>
              </a:path>
              <a:path fill="lighten" w="40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3" name="Object 7"/>
          <p:cNvGraphicFramePr/>
          <p:nvPr/>
        </p:nvGraphicFramePr>
        <p:xfrm>
          <a:off x="3429000" y="2844720"/>
          <a:ext cx="22860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44720"/>
                    <a:ext cx="22860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2558880" y="2832120"/>
                <a:ext cx="40262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50"/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4235400" y="3232080"/>
                <a:ext cx="673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AutoShape 53">
            <a:hlinkClick r:id="rId1" action="ppaction://hlinksldjump"/>
          </p:cNvPr>
          <p:cNvSpPr/>
          <p:nvPr/>
        </p:nvSpPr>
        <p:spPr>
          <a:xfrm>
            <a:off x="6858000" y="58672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1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3219480" y="2959200"/>
                <a:ext cx="27050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3130560" y="31240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3708360" y="2876400"/>
                <a:ext cx="172728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3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3968640" y="3219480"/>
                <a:ext cx="1206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0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40" name="AutoShape 11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3714840" y="3720960"/>
          <a:ext cx="201924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3720960"/>
                    <a:ext cx="20192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9">
            <a:hlinkClick r:id="rId4" action="ppaction://hlinksldjump"/>
          </p:cNvPr>
          <p:cNvSpPr/>
          <p:nvPr/>
        </p:nvSpPr>
        <p:spPr>
          <a:xfrm>
            <a:off x="1371600" y="5715000"/>
            <a:ext cx="2057400" cy="914400"/>
          </a:xfrm>
          <a:custGeom>
            <a:avLst/>
            <a:gdLst>
              <a:gd name="textAreaLeft" fmla="*/ 59040 w 2057400"/>
              <a:gd name="textAreaRight" fmla="*/ 1998360 w 2057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8589" h="21600">
                <a:moveTo>
                  <a:pt x="0" y="0"/>
                </a:moveTo>
                <a:lnTo>
                  <a:pt x="48589" y="0"/>
                </a:lnTo>
                <a:lnTo>
                  <a:pt x="48589" y="21600"/>
                </a:lnTo>
                <a:lnTo>
                  <a:pt x="0" y="21600"/>
                </a:lnTo>
                <a:close/>
              </a:path>
              <a:path fill="lightenLess" w="48589" h="21600">
                <a:moveTo>
                  <a:pt x="0" y="0"/>
                </a:moveTo>
                <a:lnTo>
                  <a:pt x="48589" y="0"/>
                </a:lnTo>
                <a:lnTo>
                  <a:pt x="47189" y="1400"/>
                </a:lnTo>
                <a:lnTo>
                  <a:pt x="1400" y="1400"/>
                </a:lnTo>
                <a:close/>
              </a:path>
              <a:path fill="darken" w="48589" h="21600">
                <a:moveTo>
                  <a:pt x="48589" y="0"/>
                </a:moveTo>
                <a:lnTo>
                  <a:pt x="48589" y="21600"/>
                </a:lnTo>
                <a:lnTo>
                  <a:pt x="47189" y="20200"/>
                </a:lnTo>
                <a:lnTo>
                  <a:pt x="47189" y="1400"/>
                </a:lnTo>
                <a:close/>
              </a:path>
              <a:path fill="darkenLess" w="48589" h="21600">
                <a:moveTo>
                  <a:pt x="48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9" y="20200"/>
                </a:lnTo>
                <a:close/>
              </a:path>
              <a:path fill="lighten" w="48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The derivative must equal ZERO or possibly undefine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place on the curve where concavity switched is called an INFLECTION POI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rea is 1250/3 square fee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523880" y="2514600"/>
            <a:ext cx="70866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ome possibilities ar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Minimize, Maximize, Optimize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Velocity, Acceleration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Rate of Change, Slope of Tangent li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7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3606840" y="2806560"/>
                <a:ext cx="193032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6"/>
          <p:cNvGraphicFramePr/>
          <p:nvPr/>
        </p:nvGraphicFramePr>
        <p:xfrm>
          <a:off x="3797280" y="2844720"/>
          <a:ext cx="154944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7280" y="2844720"/>
                    <a:ext cx="15494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2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Object 7"/>
              <p:cNvSpPr txBox="1"/>
              <p:nvPr/>
            </p:nvSpPr>
            <p:spPr>
              <a:xfrm>
                <a:off x="3257640" y="3111480"/>
                <a:ext cx="2628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4159080" y="3213000"/>
                <a:ext cx="825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2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9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AutoShape 9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2324160" y="3200400"/>
          <a:ext cx="46609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3200400"/>
                    <a:ext cx="46609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0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2355840" y="3149640"/>
                <a:ext cx="4432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7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0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035160" y="2857680"/>
                <a:ext cx="307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OR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8"/>
          <p:cNvGraphicFramePr/>
          <p:nvPr/>
        </p:nvGraphicFramePr>
        <p:xfrm>
          <a:off x="1271520" y="3544920"/>
          <a:ext cx="74502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544920"/>
                    <a:ext cx="74502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2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6" name="Object 8"/>
          <p:cNvGraphicFramePr/>
          <p:nvPr/>
        </p:nvGraphicFramePr>
        <p:xfrm>
          <a:off x="3719520" y="2952720"/>
          <a:ext cx="23367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9520" y="2952720"/>
                    <a:ext cx="23367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Object 1"/>
          <p:cNvGraphicFramePr/>
          <p:nvPr/>
        </p:nvGraphicFramePr>
        <p:xfrm>
          <a:off x="3213000" y="3352680"/>
          <a:ext cx="30355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3000" y="3352680"/>
                    <a:ext cx="3035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Object 1"/>
          <p:cNvGraphicFramePr/>
          <p:nvPr/>
        </p:nvGraphicFramePr>
        <p:xfrm>
          <a:off x="2666880" y="3200400"/>
          <a:ext cx="429264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00400"/>
                    <a:ext cx="42926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523880" y="2514600"/>
            <a:ext cx="7086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Simpson’s (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curve is better than straight li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4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908440" y="2832120"/>
                <a:ext cx="332712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52568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Five (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power, exp, trig, ln, invers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Ques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55" name="Object 2"/>
          <p:cNvGraphicFramePr/>
          <p:nvPr/>
        </p:nvGraphicFramePr>
        <p:xfrm>
          <a:off x="3124080" y="3733920"/>
          <a:ext cx="3098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733920"/>
                    <a:ext cx="3098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Box 3"/>
          <p:cNvSpPr/>
          <p:nvPr/>
        </p:nvSpPr>
        <p:spPr>
          <a:xfrm>
            <a:off x="1905120" y="22096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53"/>
          <p:cNvSpPr/>
          <p:nvPr/>
        </p:nvSpPr>
        <p:spPr>
          <a:xfrm>
            <a:off x="6781680" y="5791320"/>
            <a:ext cx="2057400" cy="76176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8321" h="21600">
                <a:moveTo>
                  <a:pt x="0" y="0"/>
                </a:moveTo>
                <a:lnTo>
                  <a:pt x="58321" y="0"/>
                </a:lnTo>
                <a:lnTo>
                  <a:pt x="58321" y="21600"/>
                </a:lnTo>
                <a:lnTo>
                  <a:pt x="0" y="21600"/>
                </a:lnTo>
                <a:close/>
              </a:path>
              <a:path fill="lightenLess" w="58321" h="21600">
                <a:moveTo>
                  <a:pt x="0" y="0"/>
                </a:moveTo>
                <a:lnTo>
                  <a:pt x="58321" y="0"/>
                </a:lnTo>
                <a:lnTo>
                  <a:pt x="56921" y="1400"/>
                </a:lnTo>
                <a:lnTo>
                  <a:pt x="1400" y="1400"/>
                </a:lnTo>
                <a:close/>
              </a:path>
              <a:path fill="darken" w="58321" h="21600">
                <a:moveTo>
                  <a:pt x="58321" y="0"/>
                </a:moveTo>
                <a:lnTo>
                  <a:pt x="58321" y="21600"/>
                </a:lnTo>
                <a:lnTo>
                  <a:pt x="56921" y="20200"/>
                </a:lnTo>
                <a:lnTo>
                  <a:pt x="56921" y="1400"/>
                </a:lnTo>
                <a:close/>
              </a:path>
              <a:path fill="darkenLess" w="58321" h="21600">
                <a:moveTo>
                  <a:pt x="58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21" y="20200"/>
                </a:lnTo>
                <a:close/>
              </a:path>
              <a:path fill="lighten" w="58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Answer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1600200" y="3352680"/>
          <a:ext cx="669276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52680"/>
                    <a:ext cx="6692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AutoShape 53"/>
          <p:cNvSpPr/>
          <p:nvPr/>
        </p:nvSpPr>
        <p:spPr>
          <a:xfrm>
            <a:off x="6553080" y="571500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Thank You for playing Calculus Jeopardy!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971800" y="3048120"/>
            <a:ext cx="330660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556080" y="2959200"/>
                <a:ext cx="2031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3657600" y="3809880"/>
                <a:ext cx="2019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3429000" y="3886200"/>
                <a:ext cx="2374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3505320" y="3962520"/>
                <a:ext cx="2260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48:32Z</dcterms:created>
  <dc:creator>David Dudley</dc:creator>
  <dc:description/>
  <dc:language>en-US</dc:language>
  <cp:lastModifiedBy>Adam Champagne</cp:lastModifiedBy>
  <dcterms:modified xsi:type="dcterms:W3CDTF">2015-06-09T19:27:53Z</dcterms:modified>
  <cp:revision>34</cp:revision>
  <dc:subject/>
  <dc:title>Calculus I Jeopardy</dc:title>
</cp:coreProperties>
</file>